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35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2282400"/>
            <a:ext cx="1169352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880" y="5639040"/>
            <a:ext cx="1169352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35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82400"/>
            <a:ext cx="570636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3080" y="2282400"/>
            <a:ext cx="570636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880" y="5639040"/>
            <a:ext cx="570636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3080" y="5639040"/>
            <a:ext cx="570636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35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2282400"/>
            <a:ext cx="37652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4760" y="2282400"/>
            <a:ext cx="37652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58640" y="2282400"/>
            <a:ext cx="37652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880" y="5639040"/>
            <a:ext cx="37652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4760" y="5639040"/>
            <a:ext cx="37652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58640" y="5639040"/>
            <a:ext cx="37652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35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880" y="2282400"/>
            <a:ext cx="11693520" cy="64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35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880" y="2282400"/>
            <a:ext cx="11693520" cy="64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35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880" y="2282400"/>
            <a:ext cx="5706360" cy="64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3080" y="2282400"/>
            <a:ext cx="5706360" cy="64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35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880" y="226800"/>
            <a:ext cx="1169352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35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880" y="2282400"/>
            <a:ext cx="570636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3080" y="2282400"/>
            <a:ext cx="5706360" cy="64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880" y="5639040"/>
            <a:ext cx="570636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35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880" y="2282400"/>
            <a:ext cx="5706360" cy="64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3080" y="2282400"/>
            <a:ext cx="570636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3080" y="5639040"/>
            <a:ext cx="570636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35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2282400"/>
            <a:ext cx="570636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3080" y="2282400"/>
            <a:ext cx="570636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5639040"/>
            <a:ext cx="1169352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35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82400"/>
            <a:ext cx="11693520" cy="64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3114720" y="57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14720" y="57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14720" y="57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14720" y="57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14720" y="57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76560" y="57240"/>
            <a:ext cx="697716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14720" y="57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14720" y="57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3114720" y="57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063960" y="82440"/>
            <a:ext cx="7000920" cy="970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63960" y="154080"/>
            <a:ext cx="7000920" cy="9558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63960" y="166680"/>
            <a:ext cx="7000920" cy="9532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14720" y="57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14720" y="57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63960" y="90360"/>
            <a:ext cx="7000920" cy="9685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14720" y="57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