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902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520" y="2282760"/>
            <a:ext cx="1169028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520" y="5637960"/>
            <a:ext cx="1169028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902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520" y="2282760"/>
            <a:ext cx="570456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0560" y="2282760"/>
            <a:ext cx="570456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520" y="5637960"/>
            <a:ext cx="570456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0560" y="5637960"/>
            <a:ext cx="570456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902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520" y="2282760"/>
            <a:ext cx="376416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3320" y="2282760"/>
            <a:ext cx="376416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56120" y="2282760"/>
            <a:ext cx="376416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520" y="5637960"/>
            <a:ext cx="376416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3320" y="5637960"/>
            <a:ext cx="376416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56120" y="5637960"/>
            <a:ext cx="376416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902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520" y="2282760"/>
            <a:ext cx="11690280" cy="64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902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520" y="2282760"/>
            <a:ext cx="11690280" cy="64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902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520" y="2282760"/>
            <a:ext cx="5704560" cy="64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0560" y="2282760"/>
            <a:ext cx="5704560" cy="64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902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520" y="226800"/>
            <a:ext cx="11690280" cy="90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902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520" y="2282760"/>
            <a:ext cx="570456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0560" y="2282760"/>
            <a:ext cx="5704560" cy="64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520" y="5637960"/>
            <a:ext cx="570456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902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520" y="2282760"/>
            <a:ext cx="5704560" cy="64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0560" y="2282760"/>
            <a:ext cx="570456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0560" y="5637960"/>
            <a:ext cx="570456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902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520" y="2282760"/>
            <a:ext cx="570456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0560" y="2282760"/>
            <a:ext cx="570456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520" y="5637960"/>
            <a:ext cx="11690280" cy="30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520" y="226800"/>
            <a:ext cx="1169028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520" y="2282760"/>
            <a:ext cx="11690280" cy="64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8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3114720" y="2232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14720" y="2232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114720" y="2232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14720" y="2232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14720" y="2232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14720" y="57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14720" y="2232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114720" y="2232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3070080" y="22320"/>
            <a:ext cx="698832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063960" y="463680"/>
            <a:ext cx="7000920" cy="8940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14720" y="5724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63960" y="158760"/>
            <a:ext cx="7000920" cy="9550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79800" y="22320"/>
            <a:ext cx="697068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14720" y="2232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14720" y="2232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14720" y="22320"/>
            <a:ext cx="6899400" cy="975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